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992040"/>
            <a:ext cx="838224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99204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6040" y="399204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5160" y="152388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9440" y="152388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99204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5160" y="399204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9440" y="399204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9480" y="380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99204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6040" y="399204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992040"/>
            <a:ext cx="838224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8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ntoSeek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ing linguistic ontologies for access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line yellow-pages and product catalog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838224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icola Guari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Consiglio Nazionale delle Ricerche, LADSEB-CNR, Padov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udio Masol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Universita’ di Padova, Dip. di Elettronica ed Informatic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ido Vet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BM Rome Tivoli Lab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Intelligent Systems 14(3),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ic Architectu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09480" y="609480"/>
          <a:ext cx="784872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09480"/>
                    <a:ext cx="784872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ource encod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xicon-based approach: graphs are labeled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glish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v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ord disambigu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Sensus ont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ve concept specialization/gener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89240" y="696960"/>
            <a:ext cx="636408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mantics of LCG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363680" y="1257480"/>
            <a:ext cx="6415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CGs rational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xical hook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Word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ricting labels to nouns enforces natural intended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s deno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lational interpret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nou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ttribute Consistency Postulat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Guarino 92] enforces simple semantic check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y X of Y is a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mantics of LCGs: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dividual qualiti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193920" y="3384720"/>
          <a:ext cx="27432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93920" y="3384720"/>
                    <a:ext cx="2743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254160" y="2184480"/>
          <a:ext cx="8608680" cy="307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4160" y="2184480"/>
                    <a:ext cx="860868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35080" y="792000"/>
            <a:ext cx="6872400" cy="5272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667600" y="228600"/>
            <a:ext cx="38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disambiguatio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tology-driven user interfa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06200" indent="-1062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tology affect the retrieval and the interaction with th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 insertion moda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746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s are directly inserted from the ont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746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lish words are recognized by the lexical interface and then disambigu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 insertionmoda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746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initi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746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 initi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CGs match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882200" cy="2457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05240" y="5029200"/>
            <a:ext cx="39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query in a) matches the graph 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r Focu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3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noun phr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ptions of products and/or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-1828800" y="2971800"/>
          <a:ext cx="12649320" cy="276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28800" y="2971800"/>
                    <a:ext cx="12649320" cy="27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ry Management-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graphs vs. encoded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ariable appears in place of the U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rbitrary number of nodes can be marked with such a variable URL ident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tonyms and inverse rel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610480" cy="1625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85800" y="4267080"/>
            <a:ext cx="75438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pecial formalism is needed for representing inverse re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 and d can match a and b, respectively, if detailed lexical knowledge  is avail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dNet’s antonyms can help in the first case, but not in the second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he antonym of Son is Daughter, not Parent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es, Roles, and disjointne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69644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n Implementation Choi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tology implemented as an ANSI-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ta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 persistence achieved by a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O-DBMS (ODI ObjectStore</a:t>
            </a:r>
            <a:r>
              <a:rPr b="0" lang="en-US" sz="1800" spc="-1" strike="noStrike" baseline="42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user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tolingua compat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recall and pr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ible descri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arse/fine-gra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NL 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ser can adopt his/her own termi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ntic disambig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tive refinement and meaning clarification of terms used in the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trategic n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9040" y="1601640"/>
            <a:ext cx="784368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mension of the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ility of the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knowledge available in the ontology (types/roles, inverses, antonyms, selectional constraints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expressiv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methodology to associate very complex components with LSG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of the encoding process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ustified in this particular contex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ML en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50054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ellow pages and product catalog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s. generic Web pag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371600" y="1447920"/>
          <a:ext cx="6246720" cy="39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447920"/>
                    <a:ext cx="6246720" cy="39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0" y="2057400"/>
          <a:ext cx="9144000" cy="3112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057400"/>
                    <a:ext cx="9144000" cy="31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simple keyword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-1447920" y="4251240"/>
          <a:ext cx="10591920" cy="260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7920" y="4251240"/>
                    <a:ext cx="10591920" cy="26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-990720" y="1523880"/>
          <a:ext cx="11506320" cy="2516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990720" y="1523880"/>
                    <a:ext cx="11506320" cy="25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7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ing precision by addin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685800"/>
          <a:ext cx="8610480" cy="37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8610480" cy="37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225360" y="4251240"/>
          <a:ext cx="8915400" cy="2600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5360" y="4251240"/>
                    <a:ext cx="891540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ing recall by exploiting lexical knowled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-304920" y="3581280"/>
          <a:ext cx="10134720" cy="306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3581280"/>
                    <a:ext cx="10134720" cy="30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-1066680" y="1219320"/>
          <a:ext cx="10972800" cy="2400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066680" y="1219320"/>
                    <a:ext cx="10972800" cy="24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ole of linguistic ontologies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upled with structured representation formalis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not just simple keyword hierarch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’s intrinsic dynamics needs to keep track of new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of understanding a rigid set of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terogeneous descriptions need a broad-coverage 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guistic ontolog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ructured representation formal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uple user vocabulary from data 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recall (synonyms, generaliz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precision (disambiguation, ontology navig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rther increase precision (by capturing the structure of queries and 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toSeek’s design choices-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ed expressivity (simple graph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atural language terms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encoding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existing lexical resources (Wordnet/Sensu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rminological flexibilit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 queries: ontology-driv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antic mat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tive query for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s disambig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/specializ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2T11:50:34Z</dcterms:created>
  <dc:creator>PowerMacintosh User</dc:creator>
  <dc:description/>
  <dc:language>en-US</dc:language>
  <cp:lastModifiedBy>Stefan Decker</cp:lastModifiedBy>
  <cp:lastPrinted>1997-06-19T10:56:54Z</cp:lastPrinted>
  <dcterms:modified xsi:type="dcterms:W3CDTF">2000-05-16T17:29:58Z</dcterms:modified>
  <cp:revision>58</cp:revision>
  <dc:subject/>
  <dc:title>L'uso di ontologie linguistiche nel reperimento d'informazioni eterogenee sul Web</dc:title>
</cp:coreProperties>
</file>